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jpeg" ContentType="image/jpeg"/>
  <Override PartName="/ppt/media/image3.jpeg" ContentType="image/jpeg"/>
  <Override PartName="/ppt/media/image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39D-E777-49D8-B5A1-B6215A45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490-5435-48AF-B293-D5291E09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D53-0E2A-4E2B-9A2C-0FAFCAD7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A23-3720-41E2-91F0-DCF1E014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646F-1411-497A-89F6-1B094C14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1A27-AE2F-4A79-9513-F45168A1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4C77-AC47-46CC-901F-070345ED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41FD-09F5-42D0-953B-43C34B38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EEE7-555F-4F55-ADB8-DBF500C6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B0AA-E42A-4B5E-9035-34D918A2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36AB-93DF-4DFB-8DC1-3930FA98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B9B1-E175-4CFC-8818-53256D76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7977-A887-41A2-BAE8-261FDF4C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3611-48A8-4BFB-8F54-C2ABC4DB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E43F-7F85-4650-85F4-7004101F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ED80-F42F-499C-836E-0174F9DD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C97F-6752-43D5-AD75-13C1B46E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ED6D-AA07-4572-861A-C24CD9C3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797-99AB-4F0C-8BD7-A1796B85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FC98-14EE-4817-9135-33A53D70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90B7-1412-470F-B1B2-8E0D37A8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93E-15ED-4D4D-943F-3260762A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155-FBE0-486A-A529-B8FEED1D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CA0-FE11-418D-9CAE-B6192874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4EA7-58B3-4CA4-AF8A-34B9FFF3F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E8BF-E386-49C1-A054-494109AE12F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r notebook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3333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your Variables Worksheet up to be stam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20,670.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Final zeroes after a decimal point are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 zero between two significant numbers is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All the zeroes that are left are NOT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ig fi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4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ig fi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4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1: Underline all non-zer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2: Underline all zeroes trailing at the end after a decimal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3: Underline all zeroes in between other underlined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 4: Cross out anything that’s l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sig fi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1: Underline all non-zer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2: Underline all zeroes trailing at the end after a decimal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3: Underline all zeroes in between other underlined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4: Cross out anything that’s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SIG FI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sig fi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41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8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.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-competition: A sticker to the pair that gets the most right answers!  You may use your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0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,1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,000,000,0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3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up with 10 significant figures problems, at least five must include rounding.  You must know the answers to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problems on a fresh sheet of paper, and an answer key on another piece of paper.  When you’re done, give your “sig fig quiz” to another group to sol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ir answers when they’re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fun with sig fig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icker chance)  How many sig figs are in each of these nu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.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.9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28,30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,000,000,0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 Figs worksheet, due Friday for B and Monday for 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 Figs Worksheet 1,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ight, you will only be able to d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blems #1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Leave problem #3 alone; you’ll be able to do it after tomorrow’s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fun with Sig Fig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somebody measure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aye-aye ear like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775040" cy="359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275520" cy="639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 rot="5400000">
            <a:off x="-786240" y="6881760"/>
            <a:ext cx="628812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fun with Sig Fig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chain is no stronger than its weakest link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One bad measurement makes your whole result ba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en you add, subtract, multiply, or divide, you can never get more sig figs than the WORST of the numbers that you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fun with Sig Fig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ig figs can each of these answers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x 6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fun with Sig Fig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ig figs can each of these answers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x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7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answer must have 1 sig fig, since that is the worst of the numbers we started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fun with Sig Fig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ig figs can each of these answers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x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7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 sig f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41 x 248,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fun with Sig Figs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ig figs can each of these answers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x 67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41 x 248,20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0800 / 0.00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unding Sig Fi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the problem’s answer has too many sig figs or places past the decimal?  You must roun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20 x 673.  We said that the answer must have just one sig fig.  Here’s how to ge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unding Sig Fi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 the operation normally fir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What is 20 x 67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unding Sig Fi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o the operation normally first.       20 x 673 = 13,460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 off the number of sig figs that you need, starting from the leftmost significant dig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unding Sig Fi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o the operation normally first.       20 x 673 = 13,460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ount off the number of sig figs that you need, starting from the leftmost significant dig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last digit that you count to must be roun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rest that you counted past will stay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ariables Workshe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cor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unding Sig Fi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x 673 = 13,460, which becomes 1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se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9 x 10.8 .  First, what normal answer do you g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unding Sig Fi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95 x 10.81 = 96.7495  Next, how many sig figs do we have to get this number down 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with the leftmost significant digit (the 9) count off the sig figs you want, going towards the right.  The number you land on is the number to 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ing off 96.7495, we ge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ounding Sig Fi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adding and subtrac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87 + 927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se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/ 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.4 - 0.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,483 + 94,7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3 x 6.085 x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before, design a “quiz” for an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questions, present a single number and ask how many sig figs it 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questions, use multiplication, addi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sion and Accur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up the hand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sted Rulers Analysis, go as far as you can until you hit another (with class)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 Fig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point of caring about sig fi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cision = How exact your measuremen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gnificant figures measure precis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 more significant figures you have, the more precise your measur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is the same thing as being r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books out!  Title this section of your notes “Significant Fig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you can begin collecting your data, you need to know the mathematical standards you’ll be held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sion &amp; Accur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curacy = How correct your measurement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precision, and not measured by sig fig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I mean by that?  Twisted Rulers lab will hopefully illustrate the ide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wisted Rulers Lab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two 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ulers amongst groups, use them in any order, just be SURE you record data for the right let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olume s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at the stations.  Learn to read instructions out loud to the group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ing the oper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d for: correct sig figs (estimating past digits on rulers, multiplication).  Feel free to check with me on your sig fig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cur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curacy = How correct your measuremen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 figs can’t tell you this.  Instead, a procedure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ercent e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ecision &amp; Accura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quation for percent error (write i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bserved Value) - (Expected Va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   x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xpected Val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ientists need to know how strong their measurements are.  We use “significant figures” to show that str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more significant figures a number has, the stronger the measurement it w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better measurement tools gives you numbers with more sig fi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rules for figuring out how many sig figs there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you want to measure this guy from eartip to eart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775040" cy="3597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27552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you want to measure this guy from eartip to eart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775040" cy="3597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28812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n you take a measurement, you can estimate one extra digit beyond the ones on the instrument, but no more than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tter ruler gave us a more precise measur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gnificant Fig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ules!  When you figure out sig figs, always follow these rules in this order.  Let’s practice on this number: 020,670.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ll digits NOT zero are always significant fig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21:09:11Z</dcterms:created>
  <dc:creator>Rebecca Stang</dc:creator>
  <dc:description/>
  <dc:language>en-US</dc:language>
  <cp:lastModifiedBy>Rebecca Stang</cp:lastModifiedBy>
  <dcterms:modified xsi:type="dcterms:W3CDTF">2009-09-20T15:08:58Z</dcterms:modified>
  <cp:revision>69</cp:revision>
  <dc:subject/>
  <dc:title>Significant Figures</dc:title>
</cp:coreProperties>
</file>